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37960" y="763200"/>
            <a:ext cx="5492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243F4-A0B2-442E-A171-4A4EA603F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86D-EA37-45FA-A6DF-1349322BE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31D1-92D6-47CE-B886-A9A3654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D49-F200-4AF8-AEB5-C7790D10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BB74-D1D8-4375-BBB0-E3913F88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531E-BC58-40F6-8E51-3AD568BF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550-E24C-430D-8FB9-BF0D86C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0285-458A-47BA-AD72-91288778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C63E-BF5F-4501-9898-EC80D4B30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4ED-8990-4AE5-A04F-586E24AD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A728-E137-4BE9-8D0B-0A80DA82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A9D-060E-41F5-B67E-A25F6272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C5C-0A52-4908-9989-202E1977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7849-7035-4928-BC77-CE16E8BB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279C-6630-45E8-85C3-4DB7993F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FD38-9215-495D-BDB2-A7EBC469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07E5-AE19-473B-B9C7-AB214812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9828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6920" y="197928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9964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9828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6920" y="4328640"/>
            <a:ext cx="26650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E26E-370D-44C0-B874-A446A0631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84CA-6C0C-4531-BDEF-EA08D6AD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10B9-A4AA-4E6D-B7EC-C32E1D15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4802-61FC-44A3-ADA7-B7A8DCAC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99640" y="720720"/>
            <a:ext cx="8277480" cy="49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798C-C008-4C18-B16C-9EE0C137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290-984F-4610-9628-C620A5CA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1160" y="432864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E68-D71F-4FF8-8F86-FD93DF0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1160" y="1979280"/>
            <a:ext cx="403920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9640" y="4328640"/>
            <a:ext cx="8277480" cy="2145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E537-3A62-4E1D-A671-C798EDAA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C8624-2078-4ECC-A2FA-55C38BAD7C61}" type="slidenum">
              <a:rPr b="0" lang="en-CA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720720"/>
            <a:ext cx="8277480" cy="107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99640" y="1979280"/>
            <a:ext cx="82774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EFAD8-CF38-4952-B2AC-89AC02E920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dR9PGikT-ug&amp;feature=related" TargetMode="External"/><Relationship Id="rId3" Type="http://schemas.openxmlformats.org/officeDocument/2006/relationships/hyperlink" Target="http://learningresourcescentre.pbworks.com/Poetry-Week-Videos" TargetMode="External"/><Relationship Id="rId4" Type="http://schemas.openxmlformats.org/officeDocument/2006/relationships/hyperlink" Target="http://www.youtube.com/watch?v=O9zNMlcFn8c" TargetMode="External"/><Relationship Id="rId5" Type="http://schemas.openxmlformats.org/officeDocument/2006/relationships/hyperlink" Target="http://www.youtube.com/watch?v=Yh9f4fDURc4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poemhunter.com/p/m/l.asp?p=1&amp;l=Top500&amp;order=title" TargetMode="External"/><Relationship Id="rId3" Type="http://schemas.openxmlformats.org/officeDocument/2006/relationships/hyperlink" Target="http://famouspoetsandpoems.com/country/Canada/Canadian_poets.html" TargetMode="External"/><Relationship Id="rId4" Type="http://schemas.openxmlformats.org/officeDocument/2006/relationships/hyperlink" Target="http://www.lyrics.com/" TargetMode="External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20720" y="539640"/>
            <a:ext cx="8640720" cy="6840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00000" y="765000"/>
            <a:ext cx="8280360" cy="56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40000" y="727200"/>
            <a:ext cx="56498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Poetry 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Video</a:t>
            </a:r>
            <a:r>
              <a:rPr b="1" lang="en-CA" sz="4400" spc="-1" strike="noStrike">
                <a:solidFill>
                  <a:srgbClr val="000000"/>
                </a:solidFill>
                <a:latin typeface="Arial"/>
              </a:rPr>
              <a:t>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glish Language A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CO #8 - Students will be expected to use writing and other forms of representation to explore, clarify, and reflect on their thoughts, feelings, experiences, and learnings; and to use their imagin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*Covers a variety of specific outcomes for each g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00000" y="765000"/>
            <a:ext cx="8280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60360" y="2519280"/>
            <a:ext cx="59407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asey at the Bat – Ernest Theyer 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youtube.com/watch?v=dR9PGikT-u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60360" y="1800360"/>
            <a:ext cx="67550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icture Videos</a:t>
            </a:r>
            <a:br>
              <a:rPr sz="1800"/>
            </a:b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learningresourcescentre.pbworks.com/Poetry-Week-Vid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60360" y="3419640"/>
            <a:ext cx="5077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hing Gold Can Stay – Robert Fr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youtube.com/watch?v=O9zNMlcFn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4319640"/>
            <a:ext cx="50263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Love Song – William Carlos William</a:t>
            </a:r>
            <a:br>
              <a:rPr sz="1800"/>
            </a:br>
            <a:r>
              <a:rPr b="0" lang="en-CA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youtube.com/watch?v=Yh9f4fDU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Where to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ick a poem or write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100 Essential Modern Poem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Edited by Joseph Par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500 popular poem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poemhunter.com/p/m/l.asp?p=1&amp;l=Top500&amp;order=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nadian Poet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famouspoetsandpoems.com/country/Canada/Canadian_poet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yrics: </a:t>
            </a:r>
            <a:r>
              <a:rPr b="0" lang="en-CA" sz="12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lyrics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indows Movie M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hoto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her sugg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ings to Consi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pretation (metaphorically/liter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isual imagery (movements, color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Sounds (music and oth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Voice overs an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ke a plan/outline for your vid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827892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ssignme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9640" y="1979280"/>
            <a:ext cx="827892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3 people per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ue in 2 weeks (will have ~4-5 clas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n work on project at h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~1 page explaining your interpretation of the p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2:24:49Z</dcterms:created>
  <dc:creator>Afton Piercy</dc:creator>
  <dc:description/>
  <dc:language>en-US</dc:language>
  <cp:lastModifiedBy>Afton Piercy</cp:lastModifiedBy>
  <dcterms:modified xsi:type="dcterms:W3CDTF">2010-06-22T12:47:59Z</dcterms:modified>
  <cp:revision>2</cp:revision>
  <dc:subject/>
  <dc:title/>
</cp:coreProperties>
</file>